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325-A178-40E6-B70C-58FD9F3E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A37-C387-4FD4-9155-D0E636B9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D77-0971-4038-9C86-509D5EB5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88A-667B-425D-A03D-007BDA44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641-28A8-4C1F-A2AD-BBE667F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160-5A44-487A-B40C-70E7728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C50-C021-4F2D-A1D1-56F470FD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6E0-C5BB-4CB4-AFF8-9D1A7E3F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757-DFF5-4A2B-9B10-10AA066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F8A-2B02-472B-8651-723E02A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15E-246D-4863-9EB6-A774EDF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EAA-A69A-47F4-9BAF-412B392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CE6-7F52-44DB-A33B-C5DB69DD72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957240"/>
            <a:ext cx="7851960" cy="11034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176480" y="1932120"/>
            <a:ext cx="6261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76480" y="3395520"/>
            <a:ext cx="6351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365120" y="3913200"/>
            <a:ext cx="535968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82600" y="4572000"/>
            <a:ext cx="630864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84200" y="5467320"/>
            <a:ext cx="744876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6188040" y="3906720"/>
            <a:ext cx="215100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243480" y="5877000"/>
            <a:ext cx="2322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1285920" y="3425760"/>
            <a:ext cx="5095800" cy="744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781200" y="987480"/>
            <a:ext cx="809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785880" y="2389320"/>
            <a:ext cx="805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57240" y="1517760"/>
            <a:ext cx="777240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51640" y="2017800"/>
            <a:ext cx="318132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5645160" y="2770200"/>
            <a:ext cx="31878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1279440" y="4133880"/>
            <a:ext cx="5097600" cy="676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279440" y="4950000"/>
            <a:ext cx="431028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5651640" y="5145120"/>
            <a:ext cx="168264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774720" y="5651640"/>
            <a:ext cx="7856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811080" y="2494080"/>
            <a:ext cx="6583320" cy="5410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817560" y="3011400"/>
            <a:ext cx="3632040" cy="633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811080" y="3627360"/>
            <a:ext cx="36324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731880" y="2962440"/>
            <a:ext cx="8278920" cy="9572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712800" y="1176480"/>
            <a:ext cx="7845480" cy="18954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822240" y="3925800"/>
            <a:ext cx="7645320" cy="5428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298520" y="5407200"/>
            <a:ext cx="460872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828720" y="4468680"/>
            <a:ext cx="8639280" cy="90828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6" descr=""/>
          <p:cNvPicPr/>
          <p:nvPr/>
        </p:nvPicPr>
        <p:blipFill>
          <a:blip r:embed="rId7"/>
          <a:stretch/>
        </p:blipFill>
        <p:spPr>
          <a:xfrm>
            <a:off x="6145200" y="5187960"/>
            <a:ext cx="2724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1305000" y="1109520"/>
            <a:ext cx="54007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1311120" y="1895400"/>
            <a:ext cx="5400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2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18676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811080" y="2286000"/>
            <a:ext cx="763776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346560"/>
            <a:ext cx="5400720" cy="6350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822240" y="2816280"/>
            <a:ext cx="4389480" cy="5428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6" descr=""/>
          <p:cNvPicPr/>
          <p:nvPr/>
        </p:nvPicPr>
        <p:blipFill>
          <a:blip r:embed="rId6"/>
          <a:stretch/>
        </p:blipFill>
        <p:spPr>
          <a:xfrm>
            <a:off x="5699160" y="3309840"/>
            <a:ext cx="2884320" cy="12319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249200" y="4017960"/>
            <a:ext cx="35546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1047600" y="1158840"/>
            <a:ext cx="8188560" cy="5414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225440" y="1725480"/>
            <a:ext cx="3425760" cy="541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1255680" y="3846600"/>
            <a:ext cx="5456160" cy="54936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811080" y="2419200"/>
            <a:ext cx="5613480" cy="5432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6" descr=""/>
          <p:cNvPicPr/>
          <p:nvPr/>
        </p:nvPicPr>
        <p:blipFill>
          <a:blip r:embed="rId6"/>
          <a:stretch/>
        </p:blipFill>
        <p:spPr>
          <a:xfrm>
            <a:off x="6523200" y="2462040"/>
            <a:ext cx="1882440" cy="7938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7"/>
          <a:stretch/>
        </p:blipFill>
        <p:spPr>
          <a:xfrm>
            <a:off x="1706400" y="4224240"/>
            <a:ext cx="3926160" cy="72576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8"/>
          <a:stretch/>
        </p:blipFill>
        <p:spPr>
          <a:xfrm>
            <a:off x="974880" y="2895480"/>
            <a:ext cx="5621040" cy="5860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1" descr=""/>
          <p:cNvPicPr/>
          <p:nvPr/>
        </p:nvPicPr>
        <p:blipFill>
          <a:blip r:embed="rId9"/>
          <a:stretch/>
        </p:blipFill>
        <p:spPr>
          <a:xfrm>
            <a:off x="6523200" y="3803760"/>
            <a:ext cx="1882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23:10Z</dcterms:modified>
  <cp:revision>15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